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505-08CC-4855-9A42-836DCF23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BD2F-4362-42FB-B42D-71ECBF0E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972-989D-43C8-9953-8098800E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40A4-E18A-4434-BA27-D313E0B5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020-4FCE-4F6E-85AF-5FB1B6A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913-31D9-465B-BD1A-E09121CE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BFD-85E7-407A-8B29-458439D5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C5B-DD14-4F10-B503-69D7D66D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8BD-7D12-4EE1-9C7B-33B9616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84D8-167D-4461-A5C6-E5040492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3307-A5E5-4993-ACFC-BD42533C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F1D-E4F3-4861-8A41-D6D33AE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E5E7-9138-4209-AEAF-99DADD32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uliu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we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n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8. mo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9. hu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0. fro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1. an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fu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jo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wen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2. o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3. ever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4. blo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ul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we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le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mo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fox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fro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fu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hu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Juli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ver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loc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ox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gett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. probl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9. be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0. 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11. but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5. pres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6. sev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7. stuck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8. sm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2. vis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3. mes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4. differ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09-15T21:35:21Z</dcterms:modified>
  <cp:revision>5</cp:revision>
  <dc:subject/>
  <dc:title>The Art Lesson Group A</dc:title>
</cp:coreProperties>
</file>